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547D-2D4A-4A8E-BB2F-34A92C602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9D38-FEA9-4F51-8C18-EC8CC1AAC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75AE-3CBF-403E-8F25-8B5B77A8F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006F-AB0C-4E21-80B8-BA8797799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A9D1-0773-47C1-8BF0-95F6234DF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D64C-136C-4B64-BD03-BBF09C4E0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461B-F555-4004-9591-C60EFB6E7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DAF0-6433-4CDC-BE5D-B127C457F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4246-97C6-4B6E-ACF0-1FD4488C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87C7-4B60-4974-A5AE-7C6B7018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E368-D4D2-4E24-ACC8-9A1656A2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75DC-2066-4C48-8DCD-593393E0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cc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7F754-0943-4C46-990D-93A2C6957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reeplaymicic.com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eb.mit.edu/invent/iow/lanmon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cc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77120" y="5334120"/>
            <a:ext cx="2666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-27-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 rot="20014200">
            <a:off x="-533520" y="990360"/>
            <a:ext cx="8896320" cy="336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e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ocket Diaper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 rot="20308800">
            <a:off x="3430800" y="3885480"/>
            <a:ext cx="51814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nd: Free 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usic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y 7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freeplaymicic.co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cc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Chelsea"/>
          <p:cNvPicPr/>
          <p:nvPr/>
        </p:nvPicPr>
        <p:blipFill>
          <a:blip r:embed="rId1"/>
          <a:stretch/>
        </p:blipFill>
        <p:spPr>
          <a:xfrm>
            <a:off x="380880" y="228600"/>
            <a:ext cx="2698920" cy="4238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962520" y="1676520"/>
            <a:ext cx="396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Chelsea Lamon she is the creator of the pocket diap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0" y="4876920"/>
            <a:ext cx="60199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or of the week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helsea Lam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May 10,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eb.mit.edu/invent/iow/lanmo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cc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cket Dia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cket Diaper was granted on January 11, 199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helsea Lamon was 8 years 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cket Diaper was a Diaper with a pock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eld a disposable baby wipe and baby pow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no longer need baby caretak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cc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Inventor: Chelsea Lanm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lsea Lanmon is a 12 year old resident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milton Texas. She enjoys atte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dle school and is very fond of poe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has been an inventor for 7 years. 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was 5 she would help her mom chan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 brothers diaper. She knew first h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arious paraphernalia and steps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ailed and resolved to create a more effi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13:19:45Z</dcterms:created>
  <dc:creator>install</dc:creator>
  <dc:description/>
  <dc:language>en-US</dc:language>
  <cp:lastModifiedBy>install</cp:lastModifiedBy>
  <dcterms:modified xsi:type="dcterms:W3CDTF">2010-05-12T13:12:54Z</dcterms:modified>
  <cp:revision>8</cp:revision>
  <dc:subject/>
  <dc:title>Slide 1</dc:title>
</cp:coreProperties>
</file>